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4F1-0E7D-463B-AA9E-87E56AFD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EBE-2882-48F3-B3FA-E212A868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2E16-8602-4B1A-A1C3-271F0F33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8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800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8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800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05A-4865-4EAF-84D5-C1C4E30A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47D2-70BF-47ED-B453-3F23748B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15DE-8386-4D6A-9CBF-ED23279A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9EE9-E750-4C2F-A156-EC581000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A8D9-D22E-4141-8430-D4CDF4F3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D6EB-AE7E-4D96-A129-E3E0A48A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720" y="553680"/>
            <a:ext cx="8639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E5D2-1E47-4388-BA63-1081DED5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B6C9-AB73-4BB0-9AC5-38610F4A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12CC-EB4A-4784-B1B9-FD491B63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51D5-0A44-476B-BB25-4B105932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F173-ABE0-432A-8E3D-713994C5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450F-68FC-4C57-B2FB-F4D45760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D3E9-B255-4229-9C89-27813FD0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8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800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9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8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800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1D7A-222E-4D10-9332-77628145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616A8-3BD5-431A-8C3C-D6B5806B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68538-89AD-4EDC-B56B-57B375AE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7E473-EEE3-4810-A1C5-4A541EC1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B793A-A8C5-4F89-B70F-7665326B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41239-8A23-403F-BD15-1D4FB3B7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FD2-0D08-44AE-8B0E-7476085C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0720" y="553680"/>
            <a:ext cx="8639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CBFB9-E074-4807-91AF-2AFEDFDB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45871-F500-4DD9-BC7E-7721A93C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0C551-2DB7-4491-B352-97659795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4F30E-076B-427D-BAA8-94437D1A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4B468-AF95-457D-A7DF-A72675AA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F10D3-7CA5-42BF-9205-6C3F8A5D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98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800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99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98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800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1AD82-33A4-4EED-A425-8C4264F5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993C-9D28-4ED4-8451-87752EC9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25E-862F-4193-A33A-6B809C3B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553680"/>
            <a:ext cx="8639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4A89-8366-432D-BACD-6173A9E3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CDAE-1FFE-492E-9749-52B5D3BA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12AF-0615-4C3B-B0B8-CF29990D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95AD-EBFC-4C17-A4D6-47FEB202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28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766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2920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EECA1-7FB2-423D-982A-CE51A2AFDCC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E32C2-848F-4428-9130-C158B0028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72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454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8336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BB139-3AB8-4649-A251-B9B42C5E1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hool.eb.com/elementary/article?articleId=433377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ol.eb.com/elementary/article?articleId=433377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54360" y="954000"/>
            <a:ext cx="27432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Grassla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057400"/>
            <a:ext cx="7543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798480"/>
            <a:ext cx="61722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limate of the Grassla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143000"/>
            <a:ext cx="731520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Grasslands have enough rain to support different grasses and maybe a few trees here and there because the ground is so dry for trees to grow  there .The Grasslands are large Biomes . They have many plants like flowers and etc . The temperature the ground and the normal climate decide what certain thing grow there.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14600" y="455760"/>
            <a:ext cx="4594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as Where Grasslands A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86868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00200" y="228600"/>
            <a:ext cx="7358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Grasslands Look Lik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7086600" cy="3429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28800" y="5257800"/>
            <a:ext cx="685800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Grasslands look like this because there are many different types of Grasslands so this is just a picture of one type of the grass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426960"/>
            <a:ext cx="891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Producers and Consumer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457280"/>
            <a:ext cx="8001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a Producer: Algae is a producer because all producers are plants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429000"/>
            <a:ext cx="8001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a Consumer: Bears are consumers are animals that eat meat or producers (plant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943600"/>
            <a:ext cx="1010772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"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cosystem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"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ritannica Elementary Encyclopedi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ncyclopædia Britannica Online School Edi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ncyclopædia Britannica, Inc., 2013. Web. 26 Apr. 2013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/>
              </a:rPr>
              <a:t>http://www.school.eb.com/elementary/article?articleId=43337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gt;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228600"/>
            <a:ext cx="8686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primary and secondary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459080"/>
            <a:ext cx="82296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ary consumers are animals that eat plants like a  or Herbivore 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3287880"/>
            <a:ext cx="77724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ary consumers are animals that eat  meat or carnivo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114800" y="15840"/>
            <a:ext cx="6629400" cy="7543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8600" y="457200"/>
            <a:ext cx="34290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 Producers , Primary and secondary consumers and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429000" y="228600"/>
            <a:ext cx="3200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7543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14400" y="0"/>
            <a:ext cx="34290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ald Eagl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-61920" y="587520"/>
            <a:ext cx="10142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., Sam. "Grasslands."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lueplanetbiomes.or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http://www.blueplanetbiomes.org/grasslands.htm, Web. 26 Apr. 201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5156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600200"/>
            <a:ext cx="1004256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4680" y="3933720"/>
            <a:ext cx="100854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60" y="2971800"/>
            <a:ext cx="100425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cosystem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"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ritannica Elementary Encyclopedi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ncyclopædia Britannica Online School Edi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ncyclopædia Britannica, Inc., 2013. Web. 30 Apr. 2013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2"/>
              </a:rPr>
              <a:t>http://www.school.eb.com/elementary/article?articleId=43337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gt;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730520"/>
            <a:ext cx="9829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"food pyramid."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Rainforest : A World Bio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weebly, Web. 30 Apr. 2013. &lt;http://therainforestaworldbiome.weebly.com/food-chain.html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17:27:55Z</dcterms:created>
  <dc:creator/>
  <dc:description/>
  <dc:language>en-US</dc:language>
  <cp:lastModifiedBy/>
  <cp:revision>1</cp:revision>
  <dc:subject/>
  <dc:title/>
</cp:coreProperties>
</file>